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56C-2CC8-423A-9FF5-022160BD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8CC-A325-458D-8E82-EED1364F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547-3D3F-4A85-A065-53B53711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714-42E1-4A83-9977-313D0785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8CC7-499B-4D7C-A9C9-A53C10A8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4515-5C70-430C-859A-AFAE83F1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3941-24E1-4906-A0C7-549CAFDF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00C4-28F6-45FB-A5DD-FD69715C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43A5-1F24-465B-80F7-E9C3F059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4014-99A2-4EEF-97E1-63BA3908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1742-626A-4E1C-8535-6E669F6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B35-0022-4A79-B737-8FCB7571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A4AD-7E73-4CE0-8169-7E8C4178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DF79-1116-43C8-A3F0-0276F41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207B-F04F-49D5-AE96-FE4F6E66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48A1-B0EF-4106-9667-E20ECBAA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A048-6C7B-407A-B577-D850C540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FB0-1912-4C04-A87B-C7FA774E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477-9C25-4D90-B9CE-597A06D5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BE3-A1A0-4BF6-B26E-8942D92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681-6B57-4A48-8C1A-741D01B2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0E8-C923-44BD-B5A7-07A7A0DA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8B7-1D61-408B-91E9-2F3AE584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C71-B4E6-4994-BD1E-7C2FBC60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1d4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43AE-2851-478F-B2E3-6A9C27633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fdbb31"/>
          </a:solidFill>
          <a:ln w="9360">
            <a:solidFill>
              <a:srgbClr val="fdb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93080" y="179280"/>
            <a:ext cx="1860480" cy="122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57578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49DF-D083-4468-B165-F9CC22ADC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d4d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1d4d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720" y="441000"/>
            <a:ext cx="162072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5971"/>
                </a:solidFill>
                <a:latin typeface="Arial"/>
              </a:rPr>
              <a:t>EDF1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3280" y="1736640"/>
            <a:ext cx="5329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5971"/>
                </a:solidFill>
                <a:latin typeface="Arial"/>
              </a:rPr>
              <a:t>Your visual aid to rescu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223524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16000" y="192240"/>
            <a:ext cx="15001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DF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591920"/>
            <a:ext cx="82296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1d4db"/>
                </a:solidFill>
                <a:latin typeface="Arial"/>
              </a:rPr>
              <a:t>EDF1</a:t>
            </a: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 – the World’s most compact Electronic Distress Flar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No hazardous pyrotechnic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Long operational us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d4db"/>
                </a:solidFill>
                <a:latin typeface="Arial"/>
              </a:rPr>
              <a:t>&gt; 6 hours continuous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1d4db"/>
                </a:solidFill>
                <a:latin typeface="Arial"/>
              </a:rPr>
              <a:t>Unique lens desig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51640" y="1521000"/>
            <a:ext cx="1184400" cy="51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DF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91920"/>
            <a:ext cx="82296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Compact, lightweight, rugged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Six hours operati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Easy battery replacemen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Battery test function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Waterproof to 10 meter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51640" y="1736640"/>
            <a:ext cx="3170160" cy="439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3139920"/>
            <a:ext cx="744480" cy="578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1665360"/>
            <a:ext cx="744480" cy="57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6080" y="4400640"/>
            <a:ext cx="741240" cy="57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744480" cy="57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2384280"/>
            <a:ext cx="73836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DF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91920"/>
            <a:ext cx="82296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Advanced LED technolog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Visibility up to 7 mil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1d4db"/>
                </a:solidFill>
                <a:latin typeface="Arial"/>
              </a:rPr>
              <a:t>Superb 360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° visibility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Excellent visibility to SAR</a:t>
            </a:r>
            <a:br>
              <a:rPr sz="3200"/>
            </a:b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aircraft and helicopter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Four operating mode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  <a:ea typeface="Arial"/>
              </a:rPr>
              <a:t>Plus SOS mode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  <a:ea typeface="Arial"/>
              </a:rPr>
              <a:t>Constant Brightnes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  <a:ea typeface="Arial"/>
              </a:rPr>
              <a:t>Maintained throughout </a:t>
            </a:r>
            <a:br>
              <a:rPr sz="2800"/>
            </a:br>
            <a:r>
              <a:rPr b="0" lang="en-US" sz="2800" spc="-1" strike="noStrike">
                <a:solidFill>
                  <a:srgbClr val="c1d4db"/>
                </a:solidFill>
                <a:latin typeface="Arial"/>
                <a:ea typeface="Arial"/>
              </a:rPr>
              <a:t>the life of the battery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744480" cy="5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2131920"/>
            <a:ext cx="74448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744480" cy="57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080" y="5157720"/>
            <a:ext cx="744480" cy="57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4113360"/>
            <a:ext cx="749160" cy="57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0" y="3429000"/>
            <a:ext cx="74124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5948280" y="1665360"/>
            <a:ext cx="3195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EDF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e compact size and rugged design means the </a:t>
            </a: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rescueME EDF1</a:t>
            </a: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 is the perfect safety product for a grab bag, liferaft or hiker’s backpack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32000" y="3624120"/>
            <a:ext cx="464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080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bb31"/>
                </a:solidFill>
                <a:latin typeface="Arial"/>
              </a:rPr>
              <a:t>rescueME EDF1</a:t>
            </a:r>
            <a:endParaRPr b="0" lang="en-US" sz="4800" spc="-1" strike="noStrike">
              <a:solidFill>
                <a:srgbClr val="c1d4db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The World’s most compac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ectronic Distress Flare </a:t>
            </a:r>
            <a:endParaRPr b="0" lang="en-US" sz="40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45280" y="2384280"/>
            <a:ext cx="289872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16:40Z</dcterms:created>
  <dc:creator>David Sheekey</dc:creator>
  <dc:description/>
  <dc:language>en-US</dc:language>
  <cp:lastModifiedBy>David</cp:lastModifiedBy>
  <dcterms:modified xsi:type="dcterms:W3CDTF">2015-03-30T14:19:49Z</dcterms:modified>
  <cp:revision>150</cp:revision>
  <dc:subject/>
  <dc:title>rescueME PLB1</dc:title>
</cp:coreProperties>
</file>